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9C94-03FB-4632-B67E-2A045DF6C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42FC-0E8B-4992-836E-99E12AC4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DCE0-75A7-4D3F-AF65-762B0078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FF95-81CE-459E-8A51-0279505C0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4B79-B4B2-4BB6-AF6E-D37FB3D29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C530-27AC-4230-9D3A-5360092E4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48D-3DE7-4926-8648-32AAF5D3D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E9A2-5673-464F-974C-8E4880C28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731-997E-4B0F-81FC-B103971A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C55-51A3-46D2-8661-6547A1FF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DCD-7102-425A-BB95-5EFFD9BD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439-00F4-4224-B4B3-15FA574E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037-AD76-4A36-823B-1B2E4688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CF1-086D-4C82-9877-B60661C1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A6F-FD42-4960-AB45-C1E5376F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A0C-A150-4512-BA97-7EE13DDE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468-F3AE-460C-B426-D531BEA6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E1F-6BCE-4432-9CF6-A0641FFD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119-FD07-459D-8930-705F66D6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B89-6F24-4BAF-8FAA-7521FB01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5493-B7F4-47A1-A26E-C1C8A11FC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orldoffancydress.com/images/sherlock%20pipe%20and%20magnifying%20glass.jpg"/>
          <p:cNvPicPr/>
          <p:nvPr/>
        </p:nvPicPr>
        <p:blipFill>
          <a:blip r:embed="rId1"/>
          <a:stretch/>
        </p:blipFill>
        <p:spPr>
          <a:xfrm>
            <a:off x="0" y="0"/>
            <a:ext cx="65152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04920" y="914040"/>
            <a:ext cx="3353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81280" y="2286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o are the though lea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at are the u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at are some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can I use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Case Stud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A person: Principal, Director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A place: School, District, Reg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A thing: Product, Program, Ev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newamerica.net/blog/files/dr_seuss_thing1_thing2_plaque.jpg"/>
          <p:cNvPicPr/>
          <p:nvPr/>
        </p:nvPicPr>
        <p:blipFill>
          <a:blip r:embed="rId1"/>
          <a:stretch/>
        </p:blipFill>
        <p:spPr>
          <a:xfrm>
            <a:off x="6019920" y="4157640"/>
            <a:ext cx="3124080" cy="27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csmonitor.com/var/ezflow_site/storage/images/media/images/2010/0830-weekly/0830-cduncan-04-arne-duncan-office/8501480-1-eng-US/0830-CDUNCAN-04-ARNE-DUNCAN-OFFICE_full_600.jpg"/>
          <p:cNvPicPr/>
          <p:nvPr/>
        </p:nvPicPr>
        <p:blipFill>
          <a:blip r:embed="rId2"/>
          <a:stretch/>
        </p:blipFill>
        <p:spPr>
          <a:xfrm>
            <a:off x="0" y="42670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estatesdubai.com/uploaded_images/burj-place-dubai-715605.jpg"/>
          <p:cNvPicPr/>
          <p:nvPr/>
        </p:nvPicPr>
        <p:blipFill>
          <a:blip r:embed="rId3"/>
          <a:stretch/>
        </p:blipFill>
        <p:spPr>
          <a:xfrm>
            <a:off x="2743200" y="4267080"/>
            <a:ext cx="3352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business-strategy-innovation.com/uploaded_images/Thought-Leadership-787948.jpg"/>
          <p:cNvPicPr/>
          <p:nvPr/>
        </p:nvPicPr>
        <p:blipFill>
          <a:blip r:embed="rId1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 Thought Lea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ert Yin - “as an empirical inquiry that investigates a contemporary phenomenon within its real-life context; when the boundaries between phenomenon and context are not clearly evident; and in which multiple sources of evidence are used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user and Strauss – Grounded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s of 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ways theory is used in case study desig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 testing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 building case studies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unded Theory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nical case studies—case cent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ntitative/Qualit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deeper 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 re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lack rig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sample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ing conclu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ardyssblog.com/wp-content/uploads/2010/07/pros_cons.gif"/>
          <p:cNvPicPr/>
          <p:nvPr/>
        </p:nvPicPr>
        <p:blipFill>
          <a:blip r:embed="rId1"/>
          <a:stretch/>
        </p:blipFill>
        <p:spPr>
          <a:xfrm>
            <a:off x="1600200" y="3505320"/>
            <a:ext cx="5943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://www.greenfieldsuk.com/media/magnifying_glass_01.png"/>
          <p:cNvPicPr/>
          <p:nvPr/>
        </p:nvPicPr>
        <p:blipFill>
          <a:blip r:embed="rId1"/>
          <a:stretch/>
        </p:blipFill>
        <p:spPr>
          <a:xfrm>
            <a:off x="0" y="0"/>
            <a:ext cx="7010280" cy="6969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a good principal great: a case study of 10 WI princip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a good university great: a case study of 6 universi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common characteristics of young social activists: a case study of 15 activi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sustain generation Y teachers?;  A case study of 12 successful generation Y teac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can I use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and talk to someone at your table and brainstorm potential case study application to your research question, including People/places/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fuseboxtheatre.com/_wpFBX/wp-content/uploads/2008/04/talking_heads_small.jpg"/>
          <p:cNvPicPr/>
          <p:nvPr/>
        </p:nvPicPr>
        <p:blipFill>
          <a:blip r:embed="rId1"/>
          <a:stretch/>
        </p:blipFill>
        <p:spPr>
          <a:xfrm>
            <a:off x="2362320" y="3809880"/>
            <a:ext cx="47624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6:37:10Z</dcterms:created>
  <dc:creator> Mark Hansen</dc:creator>
  <dc:description/>
  <dc:language>en-US</dc:language>
  <cp:lastModifiedBy> Mark Hansen</cp:lastModifiedBy>
  <dcterms:modified xsi:type="dcterms:W3CDTF">2010-10-10T18:53:42Z</dcterms:modified>
  <cp:revision>9</cp:revision>
  <dc:subject/>
  <dc:title>Case Study</dc:title>
</cp:coreProperties>
</file>